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4EC2-FFB6-4C9E-ABDF-0B127756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an be explained at a molecular leve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an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an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s with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being handed off from one electron carrier to another -- proteins, cytochrome proteins &amp; quinone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t runs in revers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II absorb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ited electron passes from chlorophyll to the primary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place electron in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zyme extracts electr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supplies them to the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action split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nto 2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mbines with another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d to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absorbs light energy (photon)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ves an electron to a higher energy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handed off down chain from electron acceptor to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cess has collected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also pumped by Plastoquinone within thylakoid s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back through ATP synthase to generate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ps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2nd photon -- shot of light energy to excite electron back up to high energy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ETC drives reduction of NADP to NAD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comes in at 2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TP &amp; 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28B3-FAAD-408A-9742-C3BF22728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B74E-A214-439A-8E36-09465587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6FAD-F494-45D3-B8B2-DE4EBD5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5530-4580-48A6-AEBB-D4C0C08FD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5738-1C6D-433B-9F2B-7D5ACA9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A896-2571-484B-B8A5-885402F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0E02-00D7-4085-97BD-03E06DE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22A3-E35E-4DF2-A8C1-DEE8E10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04A4-39D6-43A2-B971-C7DDCD9A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89AE-3DC1-4EA3-B4AE-D56811BE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D344-1319-4B25-BA44-DE6AD62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1C8F-18B6-40AF-865C-EDA4100F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6A07-1534-43C2-8B06-BAB45F704FF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0" t="0" r="0" b="11384"/>
          <a:stretch/>
        </p:blipFill>
        <p:spPr>
          <a:xfrm>
            <a:off x="4267080" y="3747960"/>
            <a:ext cx="4775400" cy="3060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2824" r="6172" b="7059"/>
          <a:stretch/>
        </p:blipFill>
        <p:spPr>
          <a:xfrm>
            <a:off x="4267080" y="409680"/>
            <a:ext cx="4800600" cy="3362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55720" cy="2830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rcRect l="0" t="0" r="4114" b="0"/>
          <a:stretch/>
        </p:blipFill>
        <p:spPr>
          <a:xfrm>
            <a:off x="152280" y="380880"/>
            <a:ext cx="4262400" cy="355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C054-ABA4-41C8-9BBE-274A576CDEA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om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09680" cy="2163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48769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4040280" y="45720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ylakoid sa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na stack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hyll &amp; ETC in thylakoid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 built up within thylakoid sa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15000" y="5698080"/>
            <a:ext cx="2666880" cy="780120"/>
            <a:chOff x="5715000" y="5698080"/>
            <a:chExt cx="2666880" cy="780120"/>
          </a:xfrm>
        </p:grpSpPr>
        <p:sp>
          <p:nvSpPr>
            <p:cNvPr id="214" name=""/>
            <p:cNvSpPr/>
            <p:nvPr/>
          </p:nvSpPr>
          <p:spPr>
            <a:xfrm>
              <a:off x="5715000" y="5715000"/>
              <a:ext cx="2666880" cy="76212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6520" y="5864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2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35160" y="60188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7440" y="57139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60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44640" y="569808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096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5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018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7080" y="5866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4120" y="6079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F052-D9E7-44B8-96CE-01797A75350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6212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4343400"/>
            <a:ext cx="4496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accessory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tosystem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35802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structure make sens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1C50-1D2B-482F-A4CD-834D6028378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Look at 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0" b="3463"/>
          <a:stretch/>
        </p:blipFill>
        <p:spPr>
          <a:xfrm>
            <a:off x="990720" y="1617840"/>
            <a:ext cx="7467480" cy="5163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trum of color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AB4B-EF65-4DA7-AAC0-748AECC7A09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performs work only with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absorbe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lorophyll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— the dominant pigment — absorbs best i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wavelengths &amp; least in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have different absorption spectr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2286000" y="3886200"/>
            <a:ext cx="4724280" cy="281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C1B6-17E6-41DF-9F39-69F53E6C19C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3505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 are green because they absorb light wavelengths i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blu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nd reflect 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gree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ack ou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3332" r="0" b="4466"/>
          <a:stretch/>
        </p:blipFill>
        <p:spPr>
          <a:xfrm>
            <a:off x="4343400" y="1676520"/>
            <a:ext cx="4267080" cy="3973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loroplas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75880" y="5866920"/>
            <a:ext cx="36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ructur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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un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0E0-78C6-4151-9516-33FE6664391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stem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llections of chlorophyll molecu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lorophyll 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lorophyll 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4EFE-4482-42D5-A517-083A7143E1D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924360" y="2516040"/>
            <a:ext cx="5219640" cy="3427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es chemic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(NADPH &amp; ATP)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o reduc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o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6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sugars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280-1D52-4E5B-B872-85D6E2417F4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66688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ilar t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ETC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n cellular respir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accep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’s the doubl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embrane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6B8-2CE9-4ADE-B2EA-DBF292D6D36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9568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0.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6E79-B1C3-42BD-9BAA-FF84D469E96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ATP that Jack buil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200400"/>
            <a:ext cx="77724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es the electr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uns the pum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mps the prot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grad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s the free ener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s the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c8f0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attach to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at evolution bui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7280" y="1751760"/>
            <a:ext cx="1662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sunligh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23280" y="1720440"/>
            <a:ext cx="4103640" cy="61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eakdown of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400480"/>
            <a:ext cx="50328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809880" y="2400480"/>
            <a:ext cx="50328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83600" y="137052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280" y="1370520"/>
            <a:ext cx="224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C43A-2844-42DA-8EB2-6F3AF63FBF9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228600" y="12952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31840" y="380160"/>
            <a:ext cx="3378240" cy="52056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Respir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912600"/>
            <a:ext cx="4952880" cy="13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itochondria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ransfer chemical energy from food molecules into chemical energy of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2440" indent="-22392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6840" y="5753520"/>
            <a:ext cx="1778040" cy="4406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e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507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DE2-93D4-4D6B-9461-6FBFB6A2C19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80880" y="1181160"/>
            <a:ext cx="8115480" cy="5600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5660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51400" y="363960"/>
            <a:ext cx="438768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c8f0f"/>
                </a:solidFill>
                <a:uFillTx/>
                <a:latin typeface="Arial"/>
              </a:rPr>
              <a:t>Chloroplast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transform light energy into chemical energy of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31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43680" y="6074280"/>
            <a:ext cx="1238400" cy="440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lit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63ED-AFE1-4206-9B59-85A4C8AA1CD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38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1BB1-8DC6-4398-97B6-F7E2D139B44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04920" y="533520"/>
            <a:ext cx="8420040" cy="5811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D9AF-79DC-4621-A425-6524C9D0372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9920" cy="5845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1266" r="0" b="3786"/>
          <a:stretch/>
        </p:blipFill>
        <p:spPr>
          <a:xfrm>
            <a:off x="272880" y="455760"/>
            <a:ext cx="8710920" cy="5894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039-33FA-4E04-B140-2FAF2133112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3d1666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PH (stored energy)</a:t>
            </a:r>
            <a:r>
              <a:rPr b="1" lang="en-US" sz="2000" spc="-1" strike="noStrike">
                <a:solidFill>
                  <a:srgbClr val="3d1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es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primary electron acceptor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eed to replace electron in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extracts electrons from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supplies them to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plit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bines with another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d we breathe easi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A3FF-479F-4F6B-8F96-B34EEC406AB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xperimental evide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e tracer =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3520" y="2514240"/>
            <a:ext cx="7896960" cy="1371960"/>
            <a:chOff x="713520" y="2514240"/>
            <a:chExt cx="7896960" cy="1371960"/>
          </a:xfrm>
        </p:grpSpPr>
        <p:grpSp>
          <p:nvGrpSpPr>
            <p:cNvPr id="297" name=""/>
            <p:cNvGrpSpPr/>
            <p:nvPr/>
          </p:nvGrpSpPr>
          <p:grpSpPr>
            <a:xfrm>
              <a:off x="838080" y="2971800"/>
              <a:ext cx="7772400" cy="914400"/>
              <a:chOff x="838080" y="2971800"/>
              <a:chExt cx="7772400" cy="914400"/>
            </a:xfrm>
          </p:grpSpPr>
          <p:sp>
            <p:nvSpPr>
              <p:cNvPr id="298" name=""/>
              <p:cNvSpPr/>
              <p:nvPr/>
            </p:nvSpPr>
            <p:spPr>
              <a:xfrm>
                <a:off x="838080" y="297180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1156320" y="3155760"/>
                <a:ext cx="6742800" cy="727560"/>
                <a:chOff x="1156320" y="3155760"/>
                <a:chExt cx="6742800" cy="727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15632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844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9600" y="318204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170120" y="3164760"/>
                  <a:ext cx="729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657600" y="315576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911840" y="316152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61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706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5672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713520" y="251424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13520" y="4190760"/>
            <a:ext cx="7896960" cy="1371960"/>
            <a:chOff x="713520" y="4190760"/>
            <a:chExt cx="7896960" cy="1371960"/>
          </a:xfrm>
        </p:grpSpPr>
        <p:grpSp>
          <p:nvGrpSpPr>
            <p:cNvPr id="311" name=""/>
            <p:cNvGrpSpPr/>
            <p:nvPr/>
          </p:nvGrpSpPr>
          <p:grpSpPr>
            <a:xfrm>
              <a:off x="838080" y="4648320"/>
              <a:ext cx="7772400" cy="914400"/>
              <a:chOff x="838080" y="4648320"/>
              <a:chExt cx="777240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838080" y="4648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156320" y="4832280"/>
                <a:ext cx="6743160" cy="727560"/>
                <a:chOff x="1156320" y="4832280"/>
                <a:chExt cx="6743160" cy="727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15632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54844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39600" y="4858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70120" y="4841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657600" y="4832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11840" y="4838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161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706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5672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713520" y="419076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57200" y="5960160"/>
            <a:ext cx="8423280" cy="54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ved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me from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plants split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661-1215-4DD4-97ED-EA643163ACA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 Photo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660-7B62-4878-A0BC-32DCF2DAC1D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n’t pass electron to NADP, it cycles back t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S I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rot="19997400">
            <a:off x="5790960" y="1523520"/>
            <a:ext cx="1981080" cy="610200"/>
          </a:xfrm>
          <a:custGeom>
            <a:avLst/>
            <a:gdLst>
              <a:gd name="textAreaLeft" fmla="*/ 365760 w 1981080"/>
              <a:gd name="textAreaRight" fmla="*/ 1338480 w 1981080"/>
              <a:gd name="textAreaTop" fmla="*/ 81720 h 610200"/>
              <a:gd name="textAreaBottom" fmla="*/ 528480 h 61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6" hR="21600" stAng="10800000" swAng="5400000"/>
                <a:lnTo>
                  <a:pt x="10602" y="0"/>
                </a:lnTo>
                <a:arcTo wR="7986" hR="21600" stAng="-5400000" swAng="2776838"/>
                <a:lnTo>
                  <a:pt x="21143" y="14400"/>
                </a:lnTo>
                <a:lnTo>
                  <a:pt x="17280" y="21600"/>
                </a:lnTo>
                <a:lnTo>
                  <a:pt x="12503" y="14400"/>
                </a:lnTo>
                <a:lnTo>
                  <a:pt x="15515" y="14400"/>
                </a:lnTo>
                <a:arcTo wR="7986" hR="21600" stAng="-2623162" swAng="-2566078"/>
                <a:lnTo>
                  <a:pt x="9294" y="292"/>
                </a:lnTo>
                <a:arcTo wR="7986" hR="21600" stAng="-5610760" swAng="-5189240"/>
                <a:close/>
              </a:path>
              <a:path fill="darkenLess" w="21600" h="21600">
                <a:moveTo>
                  <a:pt x="0" y="21600"/>
                </a:moveTo>
                <a:arcTo wR="7986" hR="21600" stAng="10800000" swAng="5400000"/>
                <a:lnTo>
                  <a:pt x="7986" y="0"/>
                </a:lnTo>
                <a:arcTo wR="7986" hR="21600" stAng="-5400000" swAng="210760"/>
                <a:lnTo>
                  <a:pt x="9294" y="292"/>
                </a:lnTo>
                <a:arcTo wR="7986" hR="21600" stAng="-5610760" swAng="-5189240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72400" y="2971800"/>
            <a:ext cx="121932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9D53-7662-4AFD-82D0-54716CCAB31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needs a constant input of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“eating others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sumers of other organis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sum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“self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t their energy from sunl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 light energy to synthesiz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6200000">
            <a:off x="6629040" y="3275640"/>
            <a:ext cx="2133720" cy="2286000"/>
          </a:xfrm>
          <a:custGeom>
            <a:avLst/>
            <a:gdLst>
              <a:gd name="textAreaLeft" fmla="*/ 0 w 2133720"/>
              <a:gd name="textAreaRight" fmla="*/ 2134080 w 213372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w="21600" h="21600">
                <a:moveTo>
                  <a:pt x="2639" y="10920"/>
                </a:moveTo>
                <a:arcTo wR="-8162" hR="-8162" stAng="10749460" swAng="-10768434"/>
                <a:lnTo>
                  <a:pt x="0" y="10860"/>
                </a:lnTo>
                <a:arcTo wR="10800" hR="10800" stAng="10781026" swAng="10768434"/>
                <a:lnTo>
                  <a:pt x="24299" y="10602"/>
                </a:lnTo>
                <a:lnTo>
                  <a:pt x="20339" y="14679"/>
                </a:lnTo>
                <a:lnTo>
                  <a:pt x="16261" y="1072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C1E-6C8E-452F-9ACC-D115741B4AA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phosphory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rcRect l="0" t="0" r="0" b="4476"/>
          <a:stretch/>
        </p:blipFill>
        <p:spPr>
          <a:xfrm>
            <a:off x="990720" y="2209680"/>
            <a:ext cx="7173720" cy="4137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06320" y="455508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05720" y="150696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CD1C-7A03-419A-B6FE-2A06E197AD9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electrons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will the ATP be used for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will the NADPH be used for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92680" y="5866560"/>
            <a:ext cx="449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stay tuned for the Calvin cycl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1839-4AA7-4698-BBF3-4134499BBFD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8B1B-4A41-422A-9870-CF947D6C465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nsum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bacter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roduc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otosynthetic bacteria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blue-green alga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477120" y="1324080"/>
            <a:ext cx="2590560" cy="5076720"/>
            <a:chOff x="6477120" y="1324080"/>
            <a:chExt cx="2590560" cy="50767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18000" t="24000" r="18000" b="24000"/>
            <a:stretch/>
          </p:blipFill>
          <p:spPr>
            <a:xfrm>
              <a:off x="6477120" y="1324080"/>
              <a:ext cx="2590560" cy="157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6477120" y="2927520"/>
              <a:ext cx="2590560" cy="17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6477120" y="4676760"/>
              <a:ext cx="259056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8458200" y="6477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75C-6A77-4569-B721-C761AA7F91B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16040" y="2285280"/>
            <a:ext cx="7772400" cy="1677240"/>
            <a:chOff x="716040" y="2285280"/>
            <a:chExt cx="7772400" cy="1677240"/>
          </a:xfrm>
        </p:grpSpPr>
        <p:grpSp>
          <p:nvGrpSpPr>
            <p:cNvPr id="122" name=""/>
            <p:cNvGrpSpPr/>
            <p:nvPr/>
          </p:nvGrpSpPr>
          <p:grpSpPr>
            <a:xfrm>
              <a:off x="716040" y="2285280"/>
              <a:ext cx="7772400" cy="871200"/>
              <a:chOff x="716040" y="2285280"/>
              <a:chExt cx="7772400" cy="871200"/>
            </a:xfrm>
          </p:grpSpPr>
          <p:sp>
            <p:nvSpPr>
              <p:cNvPr id="123" name=""/>
              <p:cNvSpPr/>
              <p:nvPr/>
            </p:nvSpPr>
            <p:spPr>
              <a:xfrm>
                <a:off x="716040" y="228600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868680" y="2285280"/>
                <a:ext cx="7272000" cy="871200"/>
                <a:chOff x="868680" y="2285280"/>
                <a:chExt cx="7272000" cy="871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68680" y="228528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74920" y="266652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716040" y="3048120"/>
              <a:ext cx="7772400" cy="914400"/>
              <a:chOff x="716040" y="3048120"/>
              <a:chExt cx="7772400" cy="9144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6040" y="30481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895680" y="3238200"/>
                <a:ext cx="7065360" cy="550800"/>
                <a:chOff x="895680" y="3238200"/>
                <a:chExt cx="7065360" cy="550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895680" y="324108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796840" y="32410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402800" y="32410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36600" y="32410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117200" y="326844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772080" y="323820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4568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6508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39840" y="32684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717480" y="1370880"/>
            <a:ext cx="257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6040" y="5028480"/>
            <a:ext cx="7772400" cy="1677240"/>
            <a:chOff x="716040" y="5028480"/>
            <a:chExt cx="7772400" cy="1677240"/>
          </a:xfrm>
        </p:grpSpPr>
        <p:grpSp>
          <p:nvGrpSpPr>
            <p:cNvPr id="141" name=""/>
            <p:cNvGrpSpPr/>
            <p:nvPr/>
          </p:nvGrpSpPr>
          <p:grpSpPr>
            <a:xfrm>
              <a:off x="716040" y="5028480"/>
              <a:ext cx="7772400" cy="838800"/>
              <a:chOff x="716040" y="5028480"/>
              <a:chExt cx="7772400" cy="838800"/>
            </a:xfrm>
          </p:grpSpPr>
          <p:sp>
            <p:nvSpPr>
              <p:cNvPr id="142" name=""/>
              <p:cNvSpPr/>
              <p:nvPr/>
            </p:nvSpPr>
            <p:spPr>
              <a:xfrm>
                <a:off x="716040" y="502920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792000" y="5028480"/>
                <a:ext cx="7361640" cy="838800"/>
                <a:chOff x="792000" y="5028480"/>
                <a:chExt cx="7361640" cy="8388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077920" y="502848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92000" y="506052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716040" y="5791320"/>
              <a:ext cx="7772400" cy="914400"/>
              <a:chOff x="716040" y="5791320"/>
              <a:chExt cx="7772400" cy="914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16040" y="5791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34280" y="5975280"/>
                <a:ext cx="6743160" cy="727560"/>
                <a:chOff x="1034280" y="5975280"/>
                <a:chExt cx="6743160" cy="727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34280" y="5984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26400" y="5984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17560" y="6001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48080" y="5984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35560" y="5975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89800" y="5981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3904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8404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34680" y="6011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8" name=""/>
          <p:cNvSpPr/>
          <p:nvPr/>
        </p:nvSpPr>
        <p:spPr>
          <a:xfrm>
            <a:off x="716760" y="419040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457092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" y="182808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F6E-9093-4650-94AF-23F8EC27B25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301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888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7400" y="3537720"/>
            <a:ext cx="7837560" cy="544680"/>
            <a:chOff x="617400" y="3537720"/>
            <a:chExt cx="7837560" cy="544680"/>
          </a:xfrm>
        </p:grpSpPr>
        <p:sp>
          <p:nvSpPr>
            <p:cNvPr id="166" name=""/>
            <p:cNvSpPr/>
            <p:nvPr/>
          </p:nvSpPr>
          <p:spPr>
            <a:xfrm>
              <a:off x="5790600" y="3565080"/>
              <a:ext cx="1433520" cy="4899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10280" y="3537720"/>
              <a:ext cx="5446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4616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40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76920" y="5715000"/>
            <a:ext cx="1752480" cy="990720"/>
            <a:chOff x="4876920" y="5715000"/>
            <a:chExt cx="1752480" cy="990720"/>
          </a:xfrm>
        </p:grpSpPr>
        <p:sp>
          <p:nvSpPr>
            <p:cNvPr id="171" name=""/>
            <p:cNvSpPr/>
            <p:nvPr/>
          </p:nvSpPr>
          <p:spPr>
            <a:xfrm>
              <a:off x="4876920" y="5715000"/>
              <a:ext cx="1752480" cy="99072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1240" y="59655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15000" y="762120"/>
            <a:ext cx="1752480" cy="990360"/>
            <a:chOff x="5715000" y="762120"/>
            <a:chExt cx="1752480" cy="990360"/>
          </a:xfrm>
        </p:grpSpPr>
        <p:sp>
          <p:nvSpPr>
            <p:cNvPr id="174" name=""/>
            <p:cNvSpPr/>
            <p:nvPr/>
          </p:nvSpPr>
          <p:spPr>
            <a:xfrm>
              <a:off x="5715000" y="762120"/>
              <a:ext cx="1752480" cy="99036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5680" y="99036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486400"/>
            <a:ext cx="1295280" cy="8380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360 w 1295280"/>
              <a:gd name="textAreaRight" fmla="*/ 1296000 w 129528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-360" y="5562720"/>
            <a:ext cx="3657600" cy="1295280"/>
            <a:chOff x="-360" y="5562720"/>
            <a:chExt cx="3657600" cy="12952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flipH="1">
              <a:off x="1218600" y="5689440"/>
              <a:ext cx="2438280" cy="1067040"/>
            </a:xfrm>
            <a:prstGeom prst="wedgeEllipseCallout">
              <a:avLst>
                <a:gd name="adj1" fmla="val 62041"/>
                <a:gd name="adj2" fmla="val -25300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2880" bIns="18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reat Circl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Life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ere’s Mufasa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oper Black"/>
              </a:rPr>
              <a:t>What does the Sun’s Energy do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Comic Sans MS"/>
              </a:rPr>
              <a:t>Chlorophyll, like a sponge, absorbs “quantum” of energy that excites its electr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Comic Sans MS"/>
              </a:rPr>
              <a:t>Rather than releasing the energy as light, it uses it to drive</a:t>
            </a:r>
            <a:r>
              <a:rPr b="1" lang="en-US" sz="3000" spc="-1" strike="noStrike">
                <a:solidFill>
                  <a:srgbClr val="0f116a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f8315"/>
                </a:solidFill>
                <a:latin typeface="Comic Sans MS"/>
              </a:rPr>
              <a:t>PHOTO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1105200" cy="105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0060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648320" y="2743200"/>
            <a:ext cx="1371600" cy="113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362400" y="2590920"/>
            <a:ext cx="113328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057400" y="4809960"/>
            <a:ext cx="1104840" cy="1057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352680" y="5334120"/>
            <a:ext cx="1133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600200"/>
            <a:ext cx="1447920" cy="10126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231120 h 1012680"/>
              <a:gd name="textAreaBottom" fmla="*/ 78156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mean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form it in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r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a stable form to be moved around th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also saved for a rainy day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building block atom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environ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,H,O,N,P,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all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organic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needed for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, proteins, lipids, nucleic 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D25-95F6-4C54-81EC-61D655E5ADA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2000" b="3871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eaves 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omates 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10480" y="64310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1A9-FB96-4C8B-B85B-6FD90B26547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5-11-29T04:47:15Z</cp:lastPrinted>
  <dcterms:modified xsi:type="dcterms:W3CDTF">2006-11-12T15:34:57Z</dcterms:modified>
  <cp:revision>29</cp:revision>
  <dc:subject>AP &amp; Regents Biology</dc:subject>
  <dc:title>PowerPoint Presentation</dc:title>
</cp:coreProperties>
</file>